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8367DD4-8526-481C-BB4F-F5E4DAB24C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FD1E86DB-8E07-4120-964A-454464F2791D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F85CB16-FADA-44D7-88C9-BC9AE6C4E14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aching hint:  If the team does not come up with any risks, the coach may lead them in risk identific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k the question:  what could cause us not to meet the project goal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would happen if we failed to achieve this go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8945B36-EFE3-4B03-836E-971513F6E71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ECE544E-4370-43E7-81D5-622A164AAA3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67C4798-7734-485B-B747-0805C0A9385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k audien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would prevent a team from achieving a specific go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are some of the risks they see in the SecSys study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ganization may have their own risk management proces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441C9C9-914F-4197-90DA-2A71A02D49A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B4F20A5-03BC-4F6A-B9D6-3F657054204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DFA9EB5-5304-4974-A321-1B415894BEB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5B73453-9367-443C-B062-9619C986255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B2AA54B-03E5-4506-9C0D-5CBEAFAB00D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D69D8BD-7FAB-41C2-84C6-5C95AEA3521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4313C46-7128-4EF0-97F3-4447655AE74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lk about how long this meeting usually takes : less than an hou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 con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0868DEE-C5BB-4617-9116-634A5FEC813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34503D5-9622-4150-8966-0EF2C3B82B9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 of getting carried away: team member gets run over by a truck is a risk, the team identifies dozens of risks, the team does not identify any risk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nd robin works to involve otherwise passive team memb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7D21420-AE97-4D8B-869E-DFA39D3116E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928D630-F93E-4E31-9C37-BEF613BA482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C559C2AD-E164-4916-B522-E4265FFB6BD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0AAE1227-4B42-43EB-985B-9E8A2EA5C2B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../Handouts/Student%20CD/Other%20Material/Risk%20Taxonomy.pdf" TargetMode="External"/><Relationship Id="rId2" Type="http://schemas.openxmlformats.org/officeDocument/2006/relationships/hyperlink" Target="file:///../../../Handouts/Student%20CD/Other%20Material/A%20Taxonomy%20of%20Opertional%20Risks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The Launch Process - Meeting 7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Risk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isk is something that may or may not happen to jeopardize a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it is certain to happen, it is an issue not a risk.  Issues should be addressed in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risks may or may not occur, they are managed differently than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considerations for risk management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likelihood of a risk occurr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impact of the risk if it actually occur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ise timely mitigation a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 management is important beca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y risks can be avoi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st of recovering from a realized risk is usually much greater than the cost of avoiding the ri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ght people can be made aware of the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lan that addresses risks is more cred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uidelines for Risk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ve guidelines for risk management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from pas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one on the team must manage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ust be empowered to manage the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must be reviewed periodic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gnificant risks should have an assigned own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isk Management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risk management process is defined in two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 identification is handled during meeting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 tracking is handled during the weekly team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sk identification process will be described in this lecture.  Risk tracking will be covered later in this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risk identification process is guided by TSP Launch Meeting 7 Script (LAU7), located in the meeting 7 tab of the launch note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Iden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meeting begins with the coach explaining to the team what risk management is and why it is importa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fer to step 3 of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LAU7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ext, the team leader leads the team in identifying risks (consider using these risk taxonomies to help stimulate risk identification;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Taxonomy-Based Risk Identification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A Taxonomy of Operational Risk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)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brainstorming method is a good tool to use because it separates the activities of identifying new risks and evaluating the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brainstorms until they cannot identify any more ri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brainstorming, the team leader lists each identified risk on the white board or flip cha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act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he risks have been identified, the team considers the impact of each risk if it actually occ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mpact on schedule is an effective way to evaluate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act on cost and functionality may also be consid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categorized by impact:  high, medium, or low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etermines how to quantify a high, medium, or low impact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high-impact risk is one that delays the project schedule significan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ikelihood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each risk is evaluated for impact, the team leader also leads the team in determining the likelihood of the risk occurring, using a scale of high, medium, and low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s the probability of risk occurrence as high, medium, or low for each risk identifi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s the team whether risks with a high probability of occurrence are not actually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s the team whether risks with a low probability of occurrence are not merely worr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1006560" y="890640"/>
            <a:ext cx="7421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ample - Risks</a:t>
            </a: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6" name="Content Placeholder 7" descr=""/>
          <p:cNvPicPr/>
          <p:nvPr/>
        </p:nvPicPr>
        <p:blipFill>
          <a:blip r:embed="rId1"/>
          <a:stretch/>
        </p:blipFill>
        <p:spPr>
          <a:xfrm>
            <a:off x="1122480" y="1573200"/>
            <a:ext cx="7240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17360" y="1526760"/>
            <a:ext cx="741348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am members are assigned to track high-priority risks, e.g., H-H, M-H, H-M, or M-M.  Where possible, assign risks to corresponding rol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Low-priority risks generally can be ignor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ven if all risks are not assigned for tracking, they should be recorded, and the team should periodically review the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isks are tracked weekly. 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Mitig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 to step 4 o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LAU7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high-priority near-term risk, briefly discuss possible mitigation a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mitigation action would lessen or alleviate the impact and/or likelihood of occurrence for a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dding tasks to mitigate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cannot identify a mitigation action, raise the risk to management and get their adv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at risks are and why managing risks is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TSP risk manage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roles of the coach and team leader in meeting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ample – Risk Mitig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62" name="Content Placeholder 5" descr=""/>
          <p:cNvPicPr/>
          <p:nvPr/>
        </p:nvPicPr>
        <p:blipFill>
          <a:blip r:embed="rId1"/>
          <a:stretch/>
        </p:blipFill>
        <p:spPr>
          <a:xfrm>
            <a:off x="268200" y="1633680"/>
            <a:ext cx="8551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view of meeting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7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consid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ence mate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aunch Process Meet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25640" y="1708200"/>
            <a:ext cx="144756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25640" y="3005280"/>
            <a:ext cx="144756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778120" y="170820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778120" y="300528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78120" y="4299120"/>
            <a:ext cx="144792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171288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54024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3540240" y="399420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2627280" y="224136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627280" y="224172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606920" y="1708200"/>
            <a:ext cx="14479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606920" y="300528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6512040" y="3005280"/>
            <a:ext cx="144756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36904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719784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 flipV="1">
            <a:off x="4454640" y="224136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454640" y="224172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3540240" y="551808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V="1">
            <a:off x="3540240" y="528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6512040" y="1708200"/>
            <a:ext cx="144756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6359400" y="2241720"/>
            <a:ext cx="0" cy="19792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6359400" y="2241720"/>
            <a:ext cx="1526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 flipH="1">
            <a:off x="5368680" y="4221000"/>
            <a:ext cx="9903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 flipV="1">
            <a:off x="5369040" y="399420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1025640" y="4299120"/>
            <a:ext cx="144756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12880" y="399420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712880" y="528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712880" y="551808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/Rationale for Meeting 7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meeting 7 i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major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isks for likelihood and impa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 members to track high-priorit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7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rcise purpo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nderstand how launch meeting 7 is condu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able to identify and classify team risk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able to use the IRTL tab in the TSP too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cognize issues that might arise and understand how to deal with the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irections (see meeting 7 exercise workbook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emble into your launch team group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duct launch meeting 7 using script LAU7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discussion of how process work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the exercise, we will conclude the module with a discussion of coaching considerations from the lecture slid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17360" y="1579320"/>
            <a:ext cx="78246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volve all team members in the risk identification brainstorming process, round-robin style works well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k the team not to list typical risks of ordinary living.  Instead, guide them on concentrating on risks that are particularly applicable to the proje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uggest guidance for high/med/low impa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llenge the team to be pro-active about risks, what can they do to avoid or mitigate it, make them take responsibil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Get the team to agree on a few high-priority, high-impact risks to present to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f issues, not addressed in plan are identified, tasks to address them should be added to the pla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ke sure risks are recorded and assigned to individual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7, the team identifies and assesses risks to the team meeting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sks are documented in the team’s plan and each high-priority near-term risk is assigned to a team member for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lan that addresses risks is more credible with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ference Material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e for risk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risk manage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58Z</dcterms:modified>
  <cp:revision>192</cp:revision>
  <dc:subject/>
  <dc:title>No Slide Title</dc:title>
</cp:coreProperties>
</file>